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317D-23E0-47D2-A628-3DD92366E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ice.edu/~jenky/sports/creat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ryst.bbk.ac.uk/PPS2/course/section12/12_glyc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in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cteria &amp; yea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owse.blogspot.ca/2012/02/role-of-sweetness-in-wine-bala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5FD9-A4B0-45EA-9814-DA26961D41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d as primary energy pathway in some bacteria but can also be supplemental in many eukaryotes, e.g., 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k12.org/user:a3F1aWNrQHdlYmIub3Jn/section/Anaerobic-Respiration%253A-ATP%252C-New-Fuels%252C-and-Yogurt-without-Oxyg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F5D-3BA5-45C2-B091-B40E5020C8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textbookofbacteriology.net/themicrobialworld/Effec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9949-C7C3-40A7-9B99-BBD6AEF13FD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315-46EB-4333-B5E6-E87EEC1B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722-846C-4C9B-A435-315E425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870-D200-4C08-800D-7B4590AD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A2D-0043-405F-97E4-A265ECB9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60E-6346-44E4-994E-C36842E0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2C5-CFE1-4652-9A8A-B12D565F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BE2-9ACB-4E0A-85DB-E71A0C4D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A85-A323-4B36-BF87-2B3A8607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7D5-7AE2-402B-9AE5-BD1132D7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440-3EE8-4F5D-9104-9689331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C10-AFC3-48B2-9C7B-5DA51C3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117-698E-4F70-9F19-51CFA8A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61F-FD51-49FC-B852-4B373079D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ng Respiration (4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Anaerobic Pathways (4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e 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ATP is used to phosphorylate creatine in some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95840" y="1600200"/>
            <a:ext cx="3789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fruc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ATP, NADH, and citrate all bind to and inhibit the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tion is the anaerobic reduction of pyruvate to ethanol or 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ctate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24160" y="1905120"/>
            <a:ext cx="449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oducts of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2200" y="1981080"/>
            <a:ext cx="38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karyotes have electron transport chains on internal membran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electron acceptor can b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erobic) or other molecules (anaerobic) such as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03-25T05:02:12Z</dcterms:modified>
  <cp:revision>83</cp:revision>
  <dc:subject/>
  <dc:title>Anaerobic Pathways</dc:title>
</cp:coreProperties>
</file>